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67261-EA28-400F-A535-BD21FBF304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A03BB-6184-48A5-ADA4-12A6E8C191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4097-C3D9-42B5-AE7B-D029E9B4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99E-CE54-4835-B26E-ED5C0E08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0FA-FA6F-46D1-8ECA-D0F4239A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ECAE-4731-4187-806C-0CEAAE85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D28-A66E-48EE-A7F6-F8C69F3B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80FC-A4C6-4F62-A22D-6BC89046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DE2-D3F8-4201-8C27-DDCA0A42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A9B3-4CC2-4548-9230-616728DF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1FC-D2CE-4A2F-8F65-4D01A1BC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556-1F3D-4681-B723-85F0B527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3BC-2E55-48A0-847C-9BF192CA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C4E-83A9-45CD-8053-DFF550FF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881ADB8F-5805-413B-B525-673314971726}" type="slidenum"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344600" y="923760"/>
            <a:ext cx="747540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  <a:ea typeface="Arial"/>
              </a:rPr>
              <a:t>Open the Eyes of My Hear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2016000"/>
            <a:ext cx="10080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Open the eyes of my heart, Lord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Open the eyes of my hear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I want to see You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I want to see You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(repeat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2016000"/>
            <a:ext cx="10080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To see you high and lifted  up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Shining in the light of Your glory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Pour out Your power and lov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As we sing holy, holy, holy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016000"/>
            <a:ext cx="10080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Open the eyes of my heart, Lord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Open the eyes of my hear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I want to see You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I want to see You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(repeat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2016000"/>
            <a:ext cx="1008072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To see you high and lifted  up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Shining in the light of Your glory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Pour out Your power and lov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As we sing holy, holy, holy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(repeat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2016000"/>
            <a:ext cx="1008072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Holy, holy, holy,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Holy, holy, holy,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Holy, holy, holy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I want to see you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(repeat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016000"/>
            <a:ext cx="1008072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To see you high and lifted  up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Shining in the light of Your glory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Pour out Your power and lov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As we sing holy, holy, holy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(repeat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wade</cp:lastModifiedBy>
  <dcterms:modified xsi:type="dcterms:W3CDTF">2014-10-22T05:11:30Z</dcterms:modified>
  <cp:revision>4</cp:revision>
  <dc:subject/>
  <dc:title>Slide 1</dc:title>
</cp:coreProperties>
</file>